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C6813-8768-4316-877E-AC1044C6D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D9CBD-D870-486E-AF22-1B1CBA1A6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CE14D-A8F5-4C2D-AFA6-50E428C58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6F755-C1CB-46C0-B66E-D553AF82D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A0491-7051-4742-B82F-6C5B9E2B6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2CF6A-158F-45E7-BD43-410060DBB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DA272-106A-4579-96B8-2D3928001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939AC-50CF-4A1D-AC92-1F2E33113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74160-F894-4689-A09F-0CDC3BE8E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C8DC-E5BB-4C1F-A8DF-E0E22DC60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F10E9-60AE-433E-97CD-8993C60C4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232C3-D012-4723-9877-696BB9C66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C59AF-8285-4A82-BFFE-B234BD93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5CB41-AA87-4898-9EB5-C9A384883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343F5-9E94-42C9-A5BF-23F27E866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3EBF8-E939-42CD-AFAF-52AD34810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8A598-4C8D-46DF-B450-1E74CD39A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91387-D7AE-4CE5-B982-4A076042A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7313-E2ED-4C73-97DE-5CF32C37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FD009-C5E6-4D14-B38A-31F9A257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89BF-F19E-478F-890B-7332EBBC2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9A93-AE14-42DE-933A-324B48C5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EF44-0EA9-4B88-A922-31183D1C7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F24E-7284-49F2-8099-ED696D76C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B048-56B5-4CF9-8050-384C8F352EB6}"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5C76-F7EA-4076-AAB9-625214F47D69}"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they had seen him, they spread the word concerning what had been told them about this child, and all who heard it were amazed at what the shepherds said to them. But Mary treasured up all these things and pondered them in her heart. The shepherds returned, glorifying and praising God for all the things they had heard and seen, which were just as they had been tol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pic>
        <p:nvPicPr>
          <p:cNvPr id="198" name="" descr=""/>
          <p:cNvPicPr/>
          <p:nvPr/>
        </p:nvPicPr>
        <p:blipFill>
          <a:blip r:embed="rId1"/>
          <a:stretch/>
        </p:blipFill>
        <p:spPr>
          <a:xfrm>
            <a:off x="2362320" y="1143000"/>
            <a:ext cx="3184560" cy="50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0" name="PlaceHolder 2"/>
          <p:cNvSpPr>
            <a:spLocks noGrp="1"/>
          </p:cNvSpPr>
          <p:nvPr>
            <p:ph/>
          </p:nvPr>
        </p:nvSpPr>
        <p:spPr>
          <a:xfrm>
            <a:off x="151920" y="1371240"/>
            <a:ext cx="7386840" cy="42670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day, we place this Manger underneath the Jesse tree to remember that Jesus is the Messiah who continues the rule of the royal house of David—a kingdom that will never end. Like King David, Jesus was born a commoner who was anointed by God to be a just ruler over his people.</a:t>
            </a:r>
            <a:br>
              <a:rPr sz="32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2"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those days Caesar Augustus issued a decree that a census should be taken of the entire Roman world. (This was the first census that took place while Quirinius was governor of Syria.)  And everyone went to their own town to register.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o Joseph also went up from the town of Nazareth in Galilee to Judea, to Bethlehem the town of Davi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4"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he belonged to the house and line of David. He went there to register with Mary, who was pledged to be married to him and was expecting a child. While they were there, the time came for the baby to be born, and she gave birth to her firstborn, a son. She wrapped him in cloths and placed him in a manger, because there was no guest room available for them. </a:t>
            </a:r>
            <a:br>
              <a:rPr sz="28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6"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07" name=""/>
          <p:cNvSpPr/>
          <p:nvPr/>
        </p:nvSpPr>
        <p:spPr>
          <a:xfrm>
            <a:off x="533520" y="1371600"/>
            <a:ext cx="6858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8" name=""/>
          <p:cNvSpPr/>
          <p:nvPr/>
        </p:nvSpPr>
        <p:spPr>
          <a:xfrm>
            <a:off x="228600" y="990720"/>
            <a:ext cx="731520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d there were shepherds living out in the fields nearby, keeping watch over their flocks at night. An angel of the Lord appeared to them, and the glory of the Lord shone around them, and they were terrified. But the angel said to them, “Do not be afraid. I bring you good news that will cause great joy for all the people. Today in the town of David a Savior has been born to you; he is the Messiah, the Lord. This will be a sign to you: You will find a baby wrapped in cloths and lying in a mange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0" name="PlaceHolder 2"/>
          <p:cNvSpPr>
            <a:spLocks noGrp="1"/>
          </p:cNvSpPr>
          <p:nvPr>
            <p:ph/>
          </p:nvPr>
        </p:nvSpPr>
        <p:spPr>
          <a:xfrm>
            <a:off x="0" y="1447560"/>
            <a:ext cx="76500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ddenly a great company of the heavenly host appeared with the angel, praising God and saying, </a:t>
            </a:r>
            <a:br>
              <a:rPr sz="3200"/>
            </a:b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Glory to God in the highest heaven, </a:t>
            </a:r>
            <a:br>
              <a:rPr sz="3200"/>
            </a:br>
            <a:r>
              <a:rPr b="0" lang="en-US" sz="3200" spc="-1" strike="noStrike">
                <a:solidFill>
                  <a:srgbClr val="2f1311"/>
                </a:solidFill>
                <a:latin typeface="Arial"/>
              </a:rPr>
              <a:t>   and on earth peace to those on whom his favor rest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2"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the angels had left them and gone into heaven, the shepherds said to one another, “Let’s go to Bethlehem and see this thing that has happened, which the Lord has told us abou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o they hurried off and found Mary and Joseph, and the baby, who was lying in the mang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49:49Z</dcterms:modified>
  <cp:revision>148</cp:revision>
  <dc:subject/>
  <dc:title>Slide 1</dc:title>
</cp:coreProperties>
</file>