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F1E-1181-4D1B-ACE8-066C415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402-178E-4FB3-912F-E2E736C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980-05B2-408B-A380-70D1924E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6F8-C88E-4D71-9605-A291F1BD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4C80-1745-4AB6-92ED-82247793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D335-C9F1-4C57-995E-EC3D603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F34-BB04-4BC0-ABE7-B20BE3A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943-5785-495E-B003-58B16F6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8F5-C4DB-4D6F-8111-09C622A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0A95-B0F3-4979-8DB3-89DEE36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1114-1E91-4AEB-9CEC-FC76A66E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AA9-EFB9-4689-8CB4-97F65C1C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F320-68BA-4F2B-91B2-D6515781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0AFA-B93F-4537-83A5-C9E9546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D3D-E2F0-4D4E-A8DE-5365901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4EC-1600-422D-8543-05CAF449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708D-E873-4F04-92EA-4638FA61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1F7-57CC-4811-B67F-1B8035DF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E61-1759-4A62-9033-16A097A1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612-32CC-4D64-8F66-7A88C00B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5C2-41E0-45B4-A5F5-86EC426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4D5-8405-4BF7-A08B-9206CF73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782-ABC3-4F4D-923D-E72209D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831-038B-486B-91AD-33F2AF9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2D67-869F-4B3D-8A15-86479EBB08C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4625-3D3A-405A-B755-7D2654C22CE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8648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oday we erect a Jesse tree to remember that God is at work in History even when the cause seems lost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8-9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infant will play near the cobra’s den,  the young child will put its hand into the viper’s nest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y will neither harm nor destroy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on all my holy mountain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for the earth will be filled with the knowledge of the LORD as the waters cover the sea.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n that day the Root of Jesse will stand as a banner for the peoples; the nations will rally to him, and his resting place will be glorious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comic"/>
              </a:rPr>
              <a:t>   </a:t>
            </a: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3875040" cy="4954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038480" y="1371600"/>
            <a:ext cx="37339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Jesse was King David’s Fa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God promised that the Messiah would come from the line of King David but . .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the monarchy of the royal house of David came to an end with the destruction of the temple in 587 BC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’s Jesse Shoot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  <a:ea typeface="宋体"/>
              </a:rPr>
              <a:t>In the 9th century BC, the prophet Isaiah received a vision from God that showed that God would still honor his promise to David for the promised Messiah.  He compared the fallen house of  king David to a cut off tree out of whose stump grew a branch. This is the branch of Jesse’s tree; this is the branch out of which Jesus would be bor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52280"/>
            <a:ext cx="7238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A Modern jesse tre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181480" cy="5061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04920"/>
            <a:ext cx="74772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47340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-3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A shoot will come up from the stump of Jesse;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from his roots a Branch will bear fruit. The Spirit of the LORD will rest on him— the Spirit of wisdom and of understanding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counsel and of might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the knowledge and fear of the LORD and he will delight in the fear of the LOR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4-5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6500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not judge by what he sees with his eyes, or decide by what he hears with his ears;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but with righteousness he will judge the needy, with justice he will give decisions for the poor of the earth.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strike the earth with the rod of his mouth; with the breath of his lips he will slay the wicked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Righteousness will be his belt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and faithfulness the sash around his wais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6-7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wolf will live with the lamb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leopard will lie down with the goat, the calf and the lion and the yearling together;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a little child will lead them.  The cow will feed with the bea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ir young will lie down togethe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the lion will eat straw like the ox. 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0:46:36Z</dcterms:created>
  <dc:creator>Preferred Customer</dc:creator>
  <dc:description/>
  <dc:language>en-US</dc:language>
  <cp:lastModifiedBy>Frank Schaefer</cp:lastModifiedBy>
  <dcterms:modified xsi:type="dcterms:W3CDTF">2010-11-16T21:45:35Z</dcterms:modified>
  <cp:revision>145</cp:revision>
  <dc:subject/>
  <dc:title>Slide 1</dc:title>
</cp:coreProperties>
</file>