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339-ACEA-4873-ABFE-BD720573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6631-27B8-4A02-A5E2-E860A634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A86E-C3E8-4A14-AAF5-A343FC57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05A-93AA-45D6-91F8-40D936CA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719-65E7-4400-BDC7-CECA268E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33FA-DD53-48C6-AFE9-08167925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EC9-F98C-4A8E-80E1-CB8751E4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9D9-7906-4855-BF70-B4557AD9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609-8F9F-41C8-A38D-E57FF213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1A3-4D2F-423E-90CA-70832C52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D88-8E56-47A4-86BF-338B2A83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889-25EC-4A1A-88E9-785FE74C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042B-1A2A-42DA-8111-2014063F16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9098" t="0" r="0" b="15885"/>
          <a:stretch/>
        </p:blipFill>
        <p:spPr>
          <a:xfrm>
            <a:off x="17524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419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Old English Text MT"/>
              </a:rPr>
              <a:t>The King of K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Mistral AV"/>
                <a:ea typeface="Arial"/>
              </a:rPr>
              <a:t>Jesus Chri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62520" y="91440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n in a stabl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humbly riding on a donk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who suffers for His su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60520" y="1600200"/>
            <a:ext cx="8021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5130" r="11539" b="0"/>
          <a:stretch/>
        </p:blipFill>
        <p:spPr>
          <a:xfrm>
            <a:off x="0" y="0"/>
            <a:ext cx="9296280" cy="735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who calls all people of the world to be his subjec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King who rose from the d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191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King who will reign forev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who loves and ca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you and me personall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647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9098" t="0" r="0" b="15885"/>
          <a:stretch/>
        </p:blipFill>
        <p:spPr>
          <a:xfrm>
            <a:off x="17524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48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Old English Text MT"/>
              </a:rPr>
              <a:t>King of kings,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Old English Text MT"/>
              </a:rPr>
              <a:t>Lord of lord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Mistral AV"/>
                <a:ea typeface="Arial"/>
              </a:rPr>
              <a:t>Jesus Chri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mes to your mind when you think of “King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986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rger 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4197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King of Far Far A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614600"/>
            <a:ext cx="739116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776"/>
          <a:stretch/>
        </p:blipFill>
        <p:spPr>
          <a:xfrm>
            <a:off x="1295280" y="380880"/>
            <a:ext cx="6324840" cy="4743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losest Thing we have to a Kingdom in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3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Inkpen2 Script"/>
              </a:rPr>
              <a:t>Disne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-life king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680" y="5638680"/>
            <a:ext cx="5181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Juan Carlos of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3136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162920" cy="5372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s live in pala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s live in pomp and sty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4548"/>
          <a:stretch/>
        </p:blipFill>
        <p:spPr>
          <a:xfrm>
            <a:off x="380880" y="1289160"/>
            <a:ext cx="81536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Jesus is a King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of a different ki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5:52:40Z</dcterms:created>
  <dc:creator>Frank Schaefer</dc:creator>
  <dc:description/>
  <dc:language>en-US</dc:language>
  <cp:lastModifiedBy>Frank Schaefer</cp:lastModifiedBy>
  <dcterms:modified xsi:type="dcterms:W3CDTF">2010-03-09T21:13:15Z</dcterms:modified>
  <cp:revision>13</cp:revision>
  <dc:subject/>
  <dc:title>The King of Kings</dc:title>
</cp:coreProperties>
</file>